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066-2A01-4A1F-94AD-1FFA8D32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04A-138D-4BBF-88F7-AD1EBAE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8DC-C3F7-4365-BF68-74851258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D12-3EC0-4879-8EBE-6C313FAF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D05-9806-4DFD-9DA8-5EAC9EA4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F10-6BDE-4CDB-A28D-3E11D658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340-93EC-4822-909E-E0EE2D8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0C6-5F60-42EE-87C4-9A16E5C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312-5169-4DA9-8C28-DFC8730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F2D-8AFA-4E48-A6A4-225F6C7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4C6-D5A9-474B-B62B-0CA4CA4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275-5BBD-41E2-83F4-979AE22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EB4-CC30-4BD1-B384-E0E4D6E9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95120" y="6508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70200"/>
            <a:ext cx="932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rs. Lynne Weathers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nd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fantastic this school year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ea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students talking in the hallway early in the 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their wonderful energy every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ne of my students to learn as much as they possibly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ir 3rd grade teacher Mrs.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000" y="650880"/>
            <a:ext cx="85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rete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be busy doing my work while I’m secretly wat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fee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strongly they want to be at their best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ou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airs as I pull them off the tops of desks read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 a new school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r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may not enjoy what we are learning for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that I will try my best to make each school day ful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eat joys and learning experien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ir 3rd grade teacher Mrs.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7680" y="4191120"/>
            <a:ext cx="862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underst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to make this year wonderful we must a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r be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ds to encourage my students so they know how much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e about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re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this school year will be the best ever for both my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the k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36640" y="60948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challen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09680"/>
            <a:ext cx="866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job is to use the worksheet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create a meaningful I poem tha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tely descri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how you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gs in your life.  Give us a great, det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ight into your life.  Remember, writ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chance to share your personal feel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6240" y="5908680"/>
            <a:ext cx="81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**We do plan on sharing these in class, so make them g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29:21Z</dcterms:created>
  <dc:creator>User</dc:creator>
  <dc:description/>
  <dc:language>en-US</dc:language>
  <cp:lastModifiedBy>Rutherford County Schools</cp:lastModifiedBy>
  <dcterms:modified xsi:type="dcterms:W3CDTF">2007-04-21T15:49:05Z</dcterms:modified>
  <cp:revision>1</cp:revision>
  <dc:subject/>
  <dc:title>No Slide Title</dc:title>
</cp:coreProperties>
</file>